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3851280" y="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923400" y="774360"/>
            <a:ext cx="49532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4560" cy="44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1"/>
          </p:nvPr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12"/>
          </p:nvPr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F7480AF-8FCA-40B6-822D-CB2980136FB0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23760" y="77472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4560" cy="44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3760" y="77472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4560" cy="44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3C4-21A4-4247-8B35-2BF7760A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518-4CCF-4476-976A-B2233271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C07-4E3D-46E8-9624-8443C5F0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41F-FE3E-45D8-91E8-15D9D986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0A91-4A00-4915-B78F-22C086D1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C00E-F799-4F76-8090-E20CC422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96FA-A3A1-427B-A885-060511F7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AE43-6D20-4990-A055-009149D2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1AF7-63F4-4EB9-B5D9-0966337A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45A7-8BE8-4AD8-9BCB-EE66F359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040A-C130-46B8-8404-7FF53659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2856-CCA1-4D16-BA22-908E20FB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B353-E5F9-4424-976B-BA2D64E0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5645-E95F-488D-88A7-96D4AC03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198E-F613-4D67-8B35-1E3A6C54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86C7-292C-44EA-9A6A-DE763D13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4B62-1363-4581-B7A4-29092EDA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6A969-BC84-4144-BA74-726CC02C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464DE-314F-4FD3-852A-96ED7094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C42C2-7AF7-4E0B-8F2D-DBA83206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5D788-70D2-45FC-A5DD-529A4AE5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E4A69-B2C4-4A5F-BAEE-55ADC0E6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BC1-6CAE-4858-B84C-98814776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51209-4244-40F3-9D5A-A15D13D8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C7855-CCB0-4457-8F9D-C9170D5D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64161-973F-4050-B274-82F69364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1CA45-21BD-4DD0-8663-AD9262D7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883B6-ACC1-49BB-A859-D4B7353D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71DEC-1C3D-4743-ADC8-81962500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6BBE1-E4AE-4A1A-8041-7DA4AB6B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0777-651D-4697-9EEC-44989261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82F-B153-4E4D-BE91-51FE1E2B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171-EB03-453C-AF23-0D0BCC16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289-6921-48AC-B4B9-675CF645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8D2-D80F-4E12-AECF-50F4AD58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276-0757-4B60-8419-CF858346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7600-6279-4BCF-8B08-FA3D20247E53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2131-A9C3-4ADD-B120-0E0CED8C0C2F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1981080" y="665280"/>
            <a:ext cx="600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B82B-696C-480E-954C-AF1E7C9DE51E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DFA5-90A2-4389-B3ED-8CE110ED8023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851040" y="2031840"/>
            <a:ext cx="719748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b2b51"/>
                </a:solidFill>
                <a:latin typeface="Arial"/>
                <a:ea typeface="宋体"/>
              </a:rPr>
              <a:t>Food Security: 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b2b51"/>
                </a:solidFill>
                <a:latin typeface="Arial"/>
                <a:ea typeface="宋体"/>
              </a:rPr>
              <a:t>EU Policy Framework </a:t>
            </a:r>
            <a:r>
              <a:rPr b="1" lang="en-GB" sz="3200" spc="-1" strike="noStrike">
                <a:solidFill>
                  <a:srgbClr val="0b2b51"/>
                </a:solidFill>
                <a:latin typeface="Arial"/>
              </a:rPr>
              <a:t>to assist developing countries in addressing food security challenges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3c72"/>
                </a:solidFill>
                <a:latin typeface="Arial"/>
                <a:ea typeface="宋体"/>
              </a:rPr>
              <a:t>  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  <a:ea typeface="宋体"/>
              </a:rPr>
              <a:t>Ria Ketting – DG RELEX/L3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00"/>
                </a:solidFill>
                <a:latin typeface="Arial"/>
              </a:rPr>
              <a:t>4 Pillars of Food security</a:t>
            </a: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ct val="105000"/>
              </a:lnSpc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0000"/>
                </a:solidFill>
                <a:latin typeface="Arial"/>
              </a:rPr>
              <a:t>Increasing availability of food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1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3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Population growth is likely to increase demand for food by 70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3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EU focus on sustainable small-scale food production to increase availability of food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3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Ecologically efficient intensific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21160" indent="-372960">
              <a:lnSpc>
                <a:spcPts val="2398"/>
              </a:lnSpc>
              <a:buClr>
                <a:srgbClr val="103c72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Value chain approach (with due attention to financing, processing and markets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821160" indent="-372960">
              <a:lnSpc>
                <a:spcPts val="2398"/>
              </a:lnSpc>
              <a:buClr>
                <a:srgbClr val="103c72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Governance is key; particularly around access and rights to lan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821160" indent="-372960">
              <a:lnSpc>
                <a:spcPts val="2398"/>
              </a:lnSpc>
              <a:buClr>
                <a:srgbClr val="103c72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Demand-driven research and innovation (including adaptation to CC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3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International a</a:t>
            </a: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nd regional integration can also play a ro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19080"/>
            <a:ext cx="822960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0000"/>
                </a:solidFill>
                <a:latin typeface="Arial"/>
              </a:rPr>
              <a:t>2. Improving access to food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Improving employment and income earning opportunities to make food more affordable for a larger number of peo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spcBef>
                <a:spcPts val="4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To be complemented by social transfer mechanisms/safety ne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398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Particularly for vulnerable population groups, including wome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398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Should be flexible and affordab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398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Containing a nutritional dimension &gt; MDG 4 and MDG 5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spcBef>
                <a:spcPts val="4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Right to Foo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05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Support application of the Voluntary Guidelines in dev. countr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05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Strategies to tackle the root causes of hunger and empowerment of marginalised group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38120" y="19144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3. Improving nutritional adequacy and food intake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624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Priority to pregnant and lactating women and children under 5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624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EU will support formulation of nutrition policies and strategies </a:t>
            </a:r>
            <a:r>
              <a:rPr b="1" lang="en-US" sz="1600" spc="-1" strike="noStrike">
                <a:solidFill>
                  <a:srgbClr val="103c72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training and educ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624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Future agriculture programmes will contain nutritional dimens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624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Multi-sectoral coordination at country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47840" y="1838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4. Enhancing Crisis Prevention and Management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624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Close linkage between humanitarian and development actors (LRRD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624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Decision-linked monitoring and information system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624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Market transparenc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624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Storage/food reserv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624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Insurance and price risk manage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Arial"/>
                <a:ea typeface="宋体"/>
              </a:rPr>
              <a:t>Prioritie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"/>
                <a:ea typeface="宋体"/>
              </a:rPr>
              <a:t>1) Improve smallholder resilience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spcBef>
                <a:spcPts val="1001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  <a:ea typeface="宋体"/>
              </a:rPr>
              <a:t>Focus on ecologically efficient agricultural intensification for smallholders, in particular wome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spcBef>
                <a:spcPts val="1001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  <a:ea typeface="宋体"/>
              </a:rPr>
              <a:t>Increased support to demand-led agricultural research for development </a:t>
            </a:r>
            <a:r>
              <a:rPr b="1" lang="en-US" sz="1800" spc="-1" strike="noStrike">
                <a:solidFill>
                  <a:srgbClr val="103c72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103c72"/>
                </a:solidFill>
                <a:latin typeface="Arial"/>
                <a:ea typeface="宋体"/>
              </a:rPr>
              <a:t> Aim: + 50% by 2015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spcBef>
                <a:spcPts val="1001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  <a:ea typeface="宋体"/>
              </a:rPr>
              <a:t>Greater participation of civil society and farmer organisations in decision-mak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spcBef>
                <a:spcPts val="1001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  <a:ea typeface="宋体"/>
              </a:rPr>
              <a:t>Improve regulatory and institutional conditions for responsible private investments in all stages of the agricultural value chain and stimulate public-private invest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6560" y="201924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3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2) Support effective governance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spcBef>
                <a:spcPts val="624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CAADP and effective division of labour in sub-Saharan African countries by 2015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spcBef>
                <a:spcPts val="624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Joint initiative with the African Union to accelerate the implementation of the African Land Policy Guidelin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spcBef>
                <a:spcPts val="624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National and international initiatives for the definition of principles and codes of conduct for sustainable large-scale investments in farm lan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spcBef>
                <a:spcPts val="624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Reform of the Committee on Food Security to become the pivotal global institution on food secur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spcBef>
                <a:spcPts val="624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Closer coordination between the Rome-based UN agenc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6280" y="19620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3) Support regional agriculture and food security policie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Development and implementation of regional agricultural policies and strategies, including on food safe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Policy dialogue with regional organisations of agriculture, food security and nutri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Regional and national information systems, including for early warning purpos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144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4) Strengthen assistance mechanisms for vulnerable population group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Establishment or expansion of targeted and flexible safety nets, adapted to local contex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Better integration of nutritional issues in development policies, including in agriculture, education and healt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3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Specific support to countries in transition and fragility using LRRD principl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11464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Arial"/>
              </a:rPr>
              <a:t>A Staff Working Document serves as an explanatory 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Arial"/>
              </a:rPr>
              <a:t>annex by elaborating on current issues with significant links with FS and h</a:t>
            </a:r>
            <a:r>
              <a:rPr b="1" lang="en-GB" sz="2200" spc="-1" strike="noStrike">
                <a:solidFill>
                  <a:srgbClr val="103c72"/>
                </a:solidFill>
                <a:latin typeface="Arial"/>
              </a:rPr>
              <a:t>igh on the international agenda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3c72"/>
                </a:solidFill>
                <a:latin typeface="Arial"/>
              </a:rPr>
              <a:t>Right to Food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3c72"/>
                </a:solidFill>
                <a:latin typeface="Arial"/>
              </a:rPr>
              <a:t>Nutrition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3c72"/>
                </a:solidFill>
                <a:latin typeface="Arial"/>
              </a:rPr>
              <a:t>Global Governance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3c72"/>
                </a:solidFill>
                <a:latin typeface="Arial"/>
              </a:rPr>
              <a:t>Price</a:t>
            </a:r>
            <a:r>
              <a:rPr b="0" lang="en-US" sz="2200" spc="-1" strike="noStrike">
                <a:solidFill>
                  <a:srgbClr val="103c72"/>
                </a:solidFill>
                <a:latin typeface="Verdana"/>
              </a:rPr>
              <a:t> </a:t>
            </a:r>
            <a:r>
              <a:rPr b="0" lang="en-US" sz="2200" spc="-1" strike="noStrike">
                <a:solidFill>
                  <a:srgbClr val="103c72"/>
                </a:solidFill>
                <a:latin typeface="Arial"/>
              </a:rPr>
              <a:t>Volatility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3c72"/>
                </a:solidFill>
                <a:latin typeface="Arial"/>
              </a:rPr>
              <a:t>Land Acquisitions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3c72"/>
                </a:solidFill>
                <a:latin typeface="Arial"/>
              </a:rPr>
              <a:t>Bioenergies 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3c72"/>
                </a:solidFill>
                <a:latin typeface="Arial"/>
              </a:rPr>
              <a:t>Research and Innovation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7680" y="1523880"/>
            <a:ext cx="86104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Arial"/>
              </a:rPr>
              <a:t>Council Conclusions on an EU Policy Framework on FS  May 2010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675"/>
              </a:spcBef>
              <a:buClr>
                <a:srgbClr val="103c72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Endorse objective and priorities of the Communic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675"/>
              </a:spcBef>
              <a:buClr>
                <a:srgbClr val="103c72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Emphasise on the potential of smallholders to reduce hung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675"/>
              </a:spcBef>
              <a:buClr>
                <a:srgbClr val="103c72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Need to improve access to food for the poor and vulnerab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675"/>
              </a:spcBef>
              <a:buClr>
                <a:srgbClr val="103c72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Call for increased support to agriculture, food security and nutri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EU Policy Framework to assist developing countries in addressing food security challenges (March 2010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Overview of the framework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Council conclusions on an EU Policy Framework (May 2010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334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Key priority areas of EU assist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Sustainable intensification approaches for small scale farmers, particularly wome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Pro-poor agricultural research, including through CGIA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Climate change and its eff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National and regional policies on agriculture, FS and nutri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Employment and income creation, including private sector and PPP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Information system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Integration of nutrition objectives into partner countries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’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 sector polic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Safety nets and social protection mechanism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Scaling up funding for malnutri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53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Arial"/>
              </a:rPr>
              <a:t>Next steps</a:t>
            </a:r>
            <a:r>
              <a:rPr b="1" lang="en-GB" sz="2400" spc="-1" strike="noStrike">
                <a:solidFill>
                  <a:srgbClr val="103c7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This new EU Policy Framework is the basis of the Commission’s revised Strategy of Food Security Thematic Programme and Multi Annual Indicative Programme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Implementation Plan of this Policy Framework (for both EU and its MS) to be proposed by the Commission in 2010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Council invites the Commission to present a Communication on Nutri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103c72"/>
                </a:solidFill>
                <a:latin typeface="Arial"/>
              </a:rPr>
              <a:t>Thank you very much </a:t>
            </a:r>
            <a:endParaRPr b="0" lang="en-US" sz="3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103c72"/>
                </a:solidFill>
                <a:latin typeface="Arial"/>
              </a:rPr>
              <a:t>for you attention</a:t>
            </a:r>
            <a:endParaRPr b="0" lang="en-US" sz="3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440" y="17334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宋体"/>
              </a:rPr>
              <a:t>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  <a:ea typeface="MS PGothic"/>
              </a:rPr>
              <a:t>Since 2007 hunger and malnutrition are on the ris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2920" indent="-226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  <a:ea typeface="MS PGothic"/>
              </a:rPr>
              <a:t>1.02 billion of food insecure in 2009 (FAO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2920" indent="-226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  <a:ea typeface="MS PGothic"/>
              </a:rPr>
              <a:t>642 millions of undernourished in Asia and Pacific reg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  <a:ea typeface="MS PGothic"/>
              </a:rPr>
              <a:t>Asia </a:t>
            </a:r>
            <a:r>
              <a:rPr b="1" lang="en-US" sz="2000" spc="-1" strike="noStrike">
                <a:solidFill>
                  <a:srgbClr val="103c72"/>
                </a:solidFill>
                <a:latin typeface="Arial"/>
                <a:ea typeface="MS PGothic"/>
              </a:rPr>
              <a:t>is the largest supplier /consumer of foo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Food insecurity is affecting human development, social and political stability, and progress towards MDG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  <a:ea typeface="MS PGothic"/>
              </a:rPr>
              <a:t>Current food security challeng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2920" indent="-226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  <a:ea typeface="MS PGothic"/>
              </a:rPr>
              <a:t>population growth, pressures on natural resources (land and water), impacts of climate change and biofuel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28760" y="1619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Arial"/>
              </a:rPr>
              <a:t>Projected Water scarcity in 2025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2b51"/>
                </a:solidFill>
                <a:latin typeface="Arial"/>
              </a:rPr>
              <a:t>Source: IWMI 2000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rcRect l="4433" t="13678" r="7407" b="2250"/>
          <a:stretch/>
        </p:blipFill>
        <p:spPr>
          <a:xfrm>
            <a:off x="1514520" y="2084400"/>
            <a:ext cx="583704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Arial"/>
              </a:rPr>
              <a:t>Climate change impact on production: Rainfed maize, 2050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3c72"/>
              </a:solidFill>
              <a:latin typeface="Verdana"/>
            </a:endParaRPr>
          </a:p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e1504"/>
                </a:solidFill>
                <a:latin typeface="Arial"/>
              </a:rPr>
              <a:t>Global production = - 16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03c72"/>
                </a:solidFill>
                <a:latin typeface="Arial"/>
              </a:rPr>
              <a:t>Source: M. Rosegrant (IFPRI) 2009</a:t>
            </a: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rcRect l="436" t="0" r="0" b="0"/>
          <a:stretch/>
        </p:blipFill>
        <p:spPr>
          <a:xfrm>
            <a:off x="1222200" y="2144880"/>
            <a:ext cx="6417000" cy="3568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legend_large.png"/>
          <p:cNvPicPr/>
          <p:nvPr/>
        </p:nvPicPr>
        <p:blipFill>
          <a:blip r:embed="rId2"/>
          <a:stretch/>
        </p:blipFill>
        <p:spPr>
          <a:xfrm>
            <a:off x="754200" y="4022640"/>
            <a:ext cx="18716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37600" y="1685520"/>
            <a:ext cx="848700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0000"/>
                </a:solidFill>
                <a:latin typeface="Arial"/>
              </a:rPr>
              <a:t>Context (cont.)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105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Global initiatives on food security after food crisi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buClr>
                <a:srgbClr val="103c72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3c72"/>
                </a:solidFill>
                <a:latin typeface="Arial"/>
              </a:rPr>
              <a:t>UNHLTF on the Global Food Security Crisi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buClr>
                <a:srgbClr val="103c72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3c72"/>
                </a:solidFill>
                <a:latin typeface="Arial"/>
              </a:rPr>
              <a:t>Launch of the 1 billion Food Facility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buClr>
                <a:srgbClr val="103c72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3c72"/>
                </a:solidFill>
                <a:latin typeface="Arial"/>
              </a:rPr>
              <a:t>Global Partnership on Agriculture, Food Security and Nutrition (GPAFSN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buClr>
                <a:srgbClr val="103c72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3c72"/>
                </a:solidFill>
                <a:latin typeface="Arial"/>
              </a:rPr>
              <a:t>G8 L’ Aquila Food Security Initiative in 2009 (AFSI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5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3c72"/>
                </a:solidFill>
                <a:latin typeface="Arial"/>
              </a:rPr>
              <a:t>US$ 20 billion committed for food security in 2010-2012 (EC: 3 € billion)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buClr>
                <a:srgbClr val="103c72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03c72"/>
                </a:solidFill>
                <a:latin typeface="Arial"/>
              </a:rPr>
              <a:t>G20 Pittsburgh : 23 million </a:t>
            </a:r>
            <a:r>
              <a:rPr b="1" lang="en-US" sz="1600" spc="-1" strike="noStrike">
                <a:solidFill>
                  <a:srgbClr val="103c72"/>
                </a:solidFill>
                <a:latin typeface="Arial"/>
              </a:rPr>
              <a:t>€ in 2010-12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5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3c72"/>
                </a:solidFill>
                <a:latin typeface="Arial"/>
              </a:rPr>
              <a:t>Global Agriculture and Food Security Program (GAFSP)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buClr>
                <a:srgbClr val="103c72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03c72"/>
                </a:solidFill>
                <a:latin typeface="Arial"/>
              </a:rPr>
              <a:t>2009 World Summit on FS: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5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3c72"/>
                </a:solidFill>
                <a:latin typeface="Arial"/>
              </a:rPr>
              <a:t>Reform of the FAO Committee on World Food Security;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5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3c72"/>
                </a:solidFill>
                <a:latin typeface="Arial"/>
              </a:rPr>
              <a:t>Creation of the HLPE as “scientific arm” of the CFS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5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3c72"/>
                </a:solidFill>
                <a:latin typeface="Arial"/>
              </a:rPr>
              <a:t>Rome principles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105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Lisbon Treaty: </a:t>
            </a:r>
            <a:r>
              <a:rPr b="1" lang="en-US" sz="1600" spc="-1" strike="noStrike">
                <a:solidFill>
                  <a:srgbClr val="103c72"/>
                </a:solidFill>
                <a:latin typeface="Arial"/>
              </a:rPr>
              <a:t>opportunity for community to promote coordination on dev. cop.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240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Arial"/>
              </a:rPr>
              <a:t>Context (cont.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03c72"/>
                </a:solidFill>
                <a:latin typeface="Arial"/>
              </a:rPr>
              <a:t>Future development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G8 Summit - Muskoka, 25-26 June 2010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ASEM Forum on Food Security - </a:t>
            </a: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Ho Chi Minh City, 5-7 July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Food Security Investment Forum for Asia and the Pacific 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–</a:t>
            </a: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 Manila, 7-9 July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UN HLPM on MDGs - NY, 20-22 September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EU Policy Framework to assist developing countries in addressing food security challenges (March 2010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Common policy framework for the EU </a:t>
            </a:r>
            <a:r>
              <a:rPr b="1" lang="en-US" sz="2000" spc="-1" strike="noStrike" u="sng">
                <a:solidFill>
                  <a:srgbClr val="103c72"/>
                </a:solidFill>
                <a:uFillTx/>
                <a:latin typeface="Arial"/>
              </a:rPr>
              <a:t>and</a:t>
            </a: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 its Member State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in the fight against hunger and malnutri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Contribute towards achieving MDG 1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Comprehensive approach across all 4 pillar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Increasing availability of foo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Improving access to foo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Improving nutritional adequacy of food intak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Enhancing crisis prevention and manag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4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cus: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Countries most off-track in reaching MDG 1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Fragile countr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Rural and urban food insecur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Specific investment in wome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SzPct val="50000"/>
              <a:buFont typeface="Times New Roman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  <a:ea typeface="宋体"/>
              </a:rPr>
              <a:t>Country-owned and country-specific strateg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SzPct val="50000"/>
              <a:buFont typeface="Times New Roman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  <a:ea typeface="宋体"/>
              </a:rPr>
              <a:t>Investments in the smallholder sector, because it yields the best returns in terms of poverty reduction and growt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gualdla</cp:lastModifiedBy>
  <cp:lastPrinted>2003-11-06T16:40:02Z</cp:lastPrinted>
  <dcterms:modified xsi:type="dcterms:W3CDTF">2010-08-25T09:19:01Z</dcterms:modified>
  <cp:revision>936</cp:revision>
  <dc:subject/>
  <dc:title>No Slide Title</dc:title>
</cp:coreProperties>
</file>